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2DEF-1C3D-44B8-9D3A-B89C2BB33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FD38-8666-4D9D-9B2C-79BDD2241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2DB0-AF54-43BE-8B96-C22D703B7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496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412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0496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412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10B4-7A9A-4295-B3DA-6EFC4222A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D4DCE-68B9-4520-8292-030B085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74C1E-813D-40AE-BB8F-6751FE91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982A7-64D0-4C81-A396-C7876C6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98FDE-A130-4FF3-BDEB-DE78E31B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069D7-91E1-4E9F-9E33-26BD367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644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7F11A-0169-43A3-BF79-2993E59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B195-5571-41D5-8E05-60C6C65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2625-2950-47E0-9299-9DAE00D87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EBF11-19C1-467F-9EEE-0C12452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8F40-4BBB-489C-A091-BFEA87E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CD4D3-FD71-433F-9DA1-9D622E4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1F69C-CA94-4E4B-834E-C03B3291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496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412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0496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412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449D3-8574-465C-A154-EB118A8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EDE8-6469-4C7B-BDCD-6EC57C7E3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AD0C-2D99-4468-BE5B-ED4A5B42B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A41D-DDE8-450C-A9C0-606D79397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120" y="22644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615D-7D05-46F6-8DE8-6F36C9682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CEA2-1947-4DE6-86C0-CE48CEFD6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E292-0C03-4586-B097-AF1F6FDCC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6256-FF3E-4C46-821F-74C7B869F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"/>
          </p:nvPr>
        </p:nvSpPr>
        <p:spPr>
          <a:xfrm>
            <a:off x="685440" y="6438960"/>
            <a:ext cx="4267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2"/>
          </p:nvPr>
        </p:nvSpPr>
        <p:spPr>
          <a:xfrm>
            <a:off x="7467480" y="6438960"/>
            <a:ext cx="14572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1816-D677-406A-AAD9-0713F8BFCD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3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2819520" y="640044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44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7B7-2700-42D0-80CA-AF7922F59E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33776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Advanced Algorithm </a:t>
            </a:r>
            <a:br>
              <a:rPr sz="3600"/>
            </a:b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Design and Analysis (Lecture 4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5 fall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monas </a:t>
            </a:r>
            <a:r>
              <a:rPr b="0" i="1" lang="lt-LT" sz="2800" spc="-1" strike="noStrike">
                <a:solidFill>
                  <a:srgbClr val="000000"/>
                </a:solidFill>
                <a:latin typeface="Verdana"/>
              </a:rPr>
              <a:t>Šalteni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1-215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Verdana"/>
              </a:rPr>
              <a:t>sima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@cs.aau.d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pact Trie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Compact 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one-child nodes with an edge labeled with a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on-leaf node (except root) has at least two childre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93720" y="4005360"/>
            <a:ext cx="4030560" cy="2318760"/>
            <a:chOff x="693720" y="4005360"/>
            <a:chExt cx="4030560" cy="2318760"/>
          </a:xfrm>
        </p:grpSpPr>
        <p:sp>
          <p:nvSpPr>
            <p:cNvPr id="301" name=""/>
            <p:cNvSpPr/>
            <p:nvPr/>
          </p:nvSpPr>
          <p:spPr>
            <a:xfrm>
              <a:off x="2222640" y="40795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301" idx="3"/>
              <a:endCxn id="303" idx="7"/>
            </p:cNvCxnSpPr>
            <p:nvPr/>
          </p:nvCxnSpPr>
          <p:spPr>
            <a:xfrm flipH="1">
              <a:off x="2031480" y="4187520"/>
              <a:ext cx="20880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03" name=""/>
            <p:cNvSpPr/>
            <p:nvPr/>
          </p:nvSpPr>
          <p:spPr>
            <a:xfrm>
              <a:off x="1930320" y="4365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04960" y="43671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7000" y="40320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304" idx="1"/>
              <a:endCxn id="301" idx="5"/>
            </p:cNvCxnSpPr>
            <p:nvPr/>
          </p:nvCxnSpPr>
          <p:spPr>
            <a:xfrm flipH="1" flipV="1">
              <a:off x="2323440" y="4187160"/>
              <a:ext cx="299160" cy="189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07" name=""/>
            <p:cNvSpPr/>
            <p:nvPr/>
          </p:nvSpPr>
          <p:spPr>
            <a:xfrm>
              <a:off x="2392200" y="400536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0440" y="46735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"/>
            <p:cNvCxnSpPr>
              <a:stCxn id="308" idx="3"/>
              <a:endCxn id="310" idx="7"/>
            </p:cNvCxnSpPr>
            <p:nvPr/>
          </p:nvCxnSpPr>
          <p:spPr>
            <a:xfrm flipH="1">
              <a:off x="1439280" y="4781160"/>
              <a:ext cx="208440" cy="18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0" name=""/>
            <p:cNvSpPr/>
            <p:nvPr/>
          </p:nvSpPr>
          <p:spPr>
            <a:xfrm>
              <a:off x="1338120" y="4959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6120" y="478152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"/>
            <p:cNvCxnSpPr>
              <a:stCxn id="303" idx="3"/>
              <a:endCxn id="308" idx="7"/>
            </p:cNvCxnSpPr>
            <p:nvPr/>
          </p:nvCxnSpPr>
          <p:spPr>
            <a:xfrm flipH="1">
              <a:off x="1731600" y="4473000"/>
              <a:ext cx="216720" cy="209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2793960" y="54939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28880" y="52495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6560" y="5535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>
              <a:stCxn id="310" idx="3"/>
              <a:endCxn id="314" idx="7"/>
            </p:cNvCxnSpPr>
            <p:nvPr/>
          </p:nvCxnSpPr>
          <p:spPr>
            <a:xfrm flipH="1">
              <a:off x="1130040" y="5066640"/>
              <a:ext cx="226080" cy="192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14" idx="3"/>
              <a:endCxn id="315" idx="7"/>
            </p:cNvCxnSpPr>
            <p:nvPr/>
          </p:nvCxnSpPr>
          <p:spPr>
            <a:xfrm flipH="1">
              <a:off x="837720" y="5357520"/>
              <a:ext cx="20880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8" name=""/>
            <p:cNvCxnSpPr>
              <a:stCxn id="303" idx="4"/>
              <a:endCxn id="311" idx="0"/>
            </p:cNvCxnSpPr>
            <p:nvPr/>
          </p:nvCxnSpPr>
          <p:spPr>
            <a:xfrm>
              <a:off x="1990800" y="4490640"/>
              <a:ext cx="56160" cy="282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1900080" y="51987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70200" y="557028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" name=""/>
            <p:cNvCxnSpPr>
              <a:stCxn id="311" idx="4"/>
              <a:endCxn id="319" idx="0"/>
            </p:cNvCxnSpPr>
            <p:nvPr/>
          </p:nvCxnSpPr>
          <p:spPr>
            <a:xfrm flipH="1">
              <a:off x="1960200" y="4906800"/>
              <a:ext cx="86400" cy="284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2" name=""/>
            <p:cNvCxnSpPr>
              <a:stCxn id="319" idx="4"/>
              <a:endCxn id="320" idx="0"/>
            </p:cNvCxnSpPr>
            <p:nvPr/>
          </p:nvCxnSpPr>
          <p:spPr>
            <a:xfrm flipH="1">
              <a:off x="1930320" y="5324400"/>
              <a:ext cx="30600" cy="2383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3" name=""/>
            <p:cNvSpPr/>
            <p:nvPr/>
          </p:nvSpPr>
          <p:spPr>
            <a:xfrm>
              <a:off x="2376360" y="47815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"/>
            <p:cNvCxnSpPr>
              <a:stCxn id="303" idx="5"/>
              <a:endCxn id="323" idx="0"/>
            </p:cNvCxnSpPr>
            <p:nvPr/>
          </p:nvCxnSpPr>
          <p:spPr>
            <a:xfrm>
              <a:off x="2031480" y="4473360"/>
              <a:ext cx="405720" cy="300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5" name=""/>
            <p:cNvSpPr/>
            <p:nvPr/>
          </p:nvSpPr>
          <p:spPr>
            <a:xfrm>
              <a:off x="2401920" y="520668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32160" y="560520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"/>
            <p:cNvCxnSpPr>
              <a:stCxn id="323" idx="4"/>
              <a:endCxn id="325" idx="0"/>
            </p:cNvCxnSpPr>
            <p:nvPr/>
          </p:nvCxnSpPr>
          <p:spPr>
            <a:xfrm>
              <a:off x="2436840" y="4906800"/>
              <a:ext cx="25920" cy="291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8" name=""/>
            <p:cNvCxnSpPr>
              <a:stCxn id="325" idx="4"/>
              <a:endCxn id="326" idx="0"/>
            </p:cNvCxnSpPr>
            <p:nvPr/>
          </p:nvCxnSpPr>
          <p:spPr>
            <a:xfrm>
              <a:off x="2462040" y="5331960"/>
              <a:ext cx="30600" cy="2653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9" name=""/>
            <p:cNvSpPr/>
            <p:nvPr/>
          </p:nvSpPr>
          <p:spPr>
            <a:xfrm>
              <a:off x="2465280" y="5994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"/>
            <p:cNvCxnSpPr>
              <a:stCxn id="326" idx="4"/>
              <a:endCxn id="329" idx="0"/>
            </p:cNvCxnSpPr>
            <p:nvPr/>
          </p:nvCxnSpPr>
          <p:spPr>
            <a:xfrm>
              <a:off x="2491920" y="5730480"/>
              <a:ext cx="34200" cy="255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1" name=""/>
            <p:cNvSpPr/>
            <p:nvPr/>
          </p:nvSpPr>
          <p:spPr>
            <a:xfrm>
              <a:off x="3000240" y="46638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"/>
            <p:cNvCxnSpPr>
              <a:stCxn id="331" idx="5"/>
              <a:endCxn id="333" idx="1"/>
            </p:cNvCxnSpPr>
            <p:nvPr/>
          </p:nvCxnSpPr>
          <p:spPr>
            <a:xfrm>
              <a:off x="3102120" y="4771800"/>
              <a:ext cx="267120" cy="198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3" name=""/>
            <p:cNvSpPr/>
            <p:nvPr/>
          </p:nvSpPr>
          <p:spPr>
            <a:xfrm>
              <a:off x="3351240" y="496080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"/>
            <p:cNvCxnSpPr>
              <a:stCxn id="304" idx="5"/>
              <a:endCxn id="331" idx="1"/>
            </p:cNvCxnSpPr>
            <p:nvPr/>
          </p:nvCxnSpPr>
          <p:spPr>
            <a:xfrm>
              <a:off x="2706840" y="4474440"/>
              <a:ext cx="31176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3662280" y="528444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1120" y="587520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"/>
            <p:cNvCxnSpPr>
              <a:stCxn id="333" idx="5"/>
              <a:endCxn id="335" idx="1"/>
            </p:cNvCxnSpPr>
            <p:nvPr/>
          </p:nvCxnSpPr>
          <p:spPr>
            <a:xfrm>
              <a:off x="3452400" y="5068440"/>
              <a:ext cx="227880" cy="225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8" name=""/>
            <p:cNvSpPr/>
            <p:nvPr/>
          </p:nvSpPr>
          <p:spPr>
            <a:xfrm>
              <a:off x="3206880" y="54273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49560" y="558612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"/>
            <p:cNvCxnSpPr>
              <a:stCxn id="339" idx="5"/>
              <a:endCxn id="341" idx="1"/>
            </p:cNvCxnSpPr>
            <p:nvPr/>
          </p:nvCxnSpPr>
          <p:spPr>
            <a:xfrm>
              <a:off x="4051440" y="5694120"/>
              <a:ext cx="241920" cy="198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1" name=""/>
            <p:cNvSpPr/>
            <p:nvPr/>
          </p:nvSpPr>
          <p:spPr>
            <a:xfrm>
              <a:off x="4275000" y="58831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>
              <a:stCxn id="335" idx="5"/>
              <a:endCxn id="339" idx="1"/>
            </p:cNvCxnSpPr>
            <p:nvPr/>
          </p:nvCxnSpPr>
          <p:spPr>
            <a:xfrm>
              <a:off x="3763440" y="5392440"/>
              <a:ext cx="204120" cy="2037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3" name=""/>
            <p:cNvSpPr/>
            <p:nvPr/>
          </p:nvSpPr>
          <p:spPr>
            <a:xfrm>
              <a:off x="4586400" y="62067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41" idx="5"/>
              <a:endCxn id="343" idx="1"/>
            </p:cNvCxnSpPr>
            <p:nvPr/>
          </p:nvCxnSpPr>
          <p:spPr>
            <a:xfrm>
              <a:off x="4376880" y="5990760"/>
              <a:ext cx="227520" cy="225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25" idx="5"/>
              <a:endCxn id="313" idx="1"/>
            </p:cNvCxnSpPr>
            <p:nvPr/>
          </p:nvCxnSpPr>
          <p:spPr>
            <a:xfrm>
              <a:off x="2503440" y="5314680"/>
              <a:ext cx="308880" cy="189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>
              <a:stCxn id="313" idx="5"/>
              <a:endCxn id="336" idx="0"/>
            </p:cNvCxnSpPr>
            <p:nvPr/>
          </p:nvCxnSpPr>
          <p:spPr>
            <a:xfrm>
              <a:off x="2895480" y="5601960"/>
              <a:ext cx="186480" cy="26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>
              <a:stCxn id="333" idx="3"/>
              <a:endCxn id="338" idx="0"/>
            </p:cNvCxnSpPr>
            <p:nvPr/>
          </p:nvCxnSpPr>
          <p:spPr>
            <a:xfrm flipH="1">
              <a:off x="3266640" y="5068440"/>
              <a:ext cx="102240" cy="3510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8" name=""/>
            <p:cNvSpPr/>
            <p:nvPr/>
          </p:nvSpPr>
          <p:spPr>
            <a:xfrm>
              <a:off x="1604880" y="4316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00680" y="4613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69920" y="488124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720" y="515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19800" y="450036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48880" y="48513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84440" y="5262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0840" y="43480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78440" y="488124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2760" y="530676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0" y="5687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3200" y="5611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4520" y="51544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4840" y="43160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6080" y="46209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07840" y="49258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15280" y="5230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6960" y="553536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56040" y="5033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7640" y="5840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62680" y="4191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3"/>
            <a:endCxn id="370" idx="7"/>
          </p:cNvCxnSpPr>
          <p:nvPr/>
        </p:nvCxnSpPr>
        <p:spPr>
          <a:xfrm flipH="1">
            <a:off x="6671880" y="4299120"/>
            <a:ext cx="208800" cy="18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6570720" y="447660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7400" y="4143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3" idx="1"/>
            <a:endCxn id="368" idx="5"/>
          </p:cNvCxnSpPr>
          <p:nvPr/>
        </p:nvCxnSpPr>
        <p:spPr>
          <a:xfrm flipH="1" flipV="1">
            <a:off x="6963480" y="4298400"/>
            <a:ext cx="521640" cy="317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7158240" y="4194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5064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514044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0" idx="3"/>
            <a:endCxn id="375" idx="7"/>
          </p:cNvCxnSpPr>
          <p:nvPr/>
        </p:nvCxnSpPr>
        <p:spPr>
          <a:xfrm flipH="1">
            <a:off x="5968440" y="4584600"/>
            <a:ext cx="619560" cy="489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7434360" y="560556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0" idx="4"/>
            <a:endCxn id="376" idx="0"/>
          </p:cNvCxnSpPr>
          <p:nvPr/>
        </p:nvCxnSpPr>
        <p:spPr>
          <a:xfrm>
            <a:off x="6630840" y="4601880"/>
            <a:ext cx="59760" cy="531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0" idx="5"/>
            <a:endCxn id="381" idx="0"/>
          </p:cNvCxnSpPr>
          <p:nvPr/>
        </p:nvCxnSpPr>
        <p:spPr>
          <a:xfrm>
            <a:off x="6671880" y="4584600"/>
            <a:ext cx="322920" cy="548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6934320" y="51404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58262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81" idx="4"/>
            <a:endCxn id="382" idx="0"/>
          </p:cNvCxnSpPr>
          <p:nvPr/>
        </p:nvCxnSpPr>
        <p:spPr>
          <a:xfrm>
            <a:off x="6994080" y="5265360"/>
            <a:ext cx="1080" cy="553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7467480" y="4606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73" idx="5"/>
            <a:endCxn id="385" idx="1"/>
          </p:cNvCxnSpPr>
          <p:nvPr/>
        </p:nvCxnSpPr>
        <p:spPr>
          <a:xfrm>
            <a:off x="7569360" y="4714920"/>
            <a:ext cx="51336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7620120" y="51404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64360" y="5064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1" idx="5"/>
            <a:endCxn id="378" idx="1"/>
          </p:cNvCxnSpPr>
          <p:nvPr/>
        </p:nvCxnSpPr>
        <p:spPr>
          <a:xfrm>
            <a:off x="7035480" y="5248440"/>
            <a:ext cx="416520" cy="367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73" idx="4"/>
            <a:endCxn id="386" idx="0"/>
          </p:cNvCxnSpPr>
          <p:nvPr/>
        </p:nvCxnSpPr>
        <p:spPr>
          <a:xfrm>
            <a:off x="7527600" y="4732200"/>
            <a:ext cx="153000" cy="401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5808240" y="4498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59320" y="47592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7080" y="468324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67560" y="536904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72640" y="514044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97240" y="46512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y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23120" y="475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7242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D760-DEC4-48DB-8258-A6D67D2E62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pact 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s are external to the structure in one array, edges are labeled with indices in the array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d to d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ord match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find where the given word appears in the tex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compact trie to “store” all words in the tex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hild in the compact trie has a list of indices in the text where the corresponding word app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DF1E-6E01-49D4-B1F9-406CD51B0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ord Matching with Tri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4927680"/>
            <a:ext cx="8337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a wor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ach node, follow edg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= T[i..j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re is no such edge, there is n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therwise, find all starting indices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 leaf is reach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1230480" y="4141800"/>
            <a:ext cx="75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95800" y="15210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404" idx="1"/>
            <a:endCxn id="402" idx="5"/>
          </p:cNvCxnSpPr>
          <p:nvPr/>
        </p:nvCxnSpPr>
        <p:spPr>
          <a:xfrm flipH="1" flipV="1">
            <a:off x="4296600" y="1628280"/>
            <a:ext cx="816840" cy="378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5" name=""/>
          <p:cNvSpPr/>
          <p:nvPr/>
        </p:nvSpPr>
        <p:spPr>
          <a:xfrm>
            <a:off x="3081240" y="2308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33960" y="229248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2" idx="3"/>
            <a:endCxn id="405" idx="7"/>
          </p:cNvCxnSpPr>
          <p:nvPr/>
        </p:nvCxnSpPr>
        <p:spPr>
          <a:xfrm flipH="1">
            <a:off x="3182400" y="1628640"/>
            <a:ext cx="1031040" cy="689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5227560" y="35100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2" idx="4"/>
            <a:endCxn id="406" idx="0"/>
          </p:cNvCxnSpPr>
          <p:nvPr/>
        </p:nvCxnSpPr>
        <p:spPr>
          <a:xfrm>
            <a:off x="4255920" y="1645920"/>
            <a:ext cx="388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6" idx="5"/>
            <a:endCxn id="411" idx="0"/>
          </p:cNvCxnSpPr>
          <p:nvPr/>
        </p:nvCxnSpPr>
        <p:spPr>
          <a:xfrm>
            <a:off x="4335120" y="2400480"/>
            <a:ext cx="454680" cy="529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4729320" y="293688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32320" y="35892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11" idx="4"/>
            <a:endCxn id="412" idx="0"/>
          </p:cNvCxnSpPr>
          <p:nvPr/>
        </p:nvCxnSpPr>
        <p:spPr>
          <a:xfrm flipH="1">
            <a:off x="4492440" y="3062160"/>
            <a:ext cx="297360" cy="519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5095800" y="199692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04" idx="5"/>
            <a:endCxn id="415" idx="1"/>
          </p:cNvCxnSpPr>
          <p:nvPr/>
        </p:nvCxnSpPr>
        <p:spPr>
          <a:xfrm>
            <a:off x="5197320" y="2104920"/>
            <a:ext cx="718560" cy="308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5091120" y="27241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7520" y="240336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1" idx="5"/>
            <a:endCxn id="408" idx="1"/>
          </p:cNvCxnSpPr>
          <p:nvPr/>
        </p:nvCxnSpPr>
        <p:spPr>
          <a:xfrm>
            <a:off x="4830480" y="3044880"/>
            <a:ext cx="415080" cy="475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04" idx="4"/>
            <a:endCxn id="416" idx="0"/>
          </p:cNvCxnSpPr>
          <p:nvPr/>
        </p:nvCxnSpPr>
        <p:spPr>
          <a:xfrm flipH="1">
            <a:off x="5150880" y="2122200"/>
            <a:ext cx="5400" cy="594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3104280" y="17272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1,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44840" y="27241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06" idx="2"/>
            <a:endCxn id="420" idx="7"/>
          </p:cNvCxnSpPr>
          <p:nvPr/>
        </p:nvCxnSpPr>
        <p:spPr>
          <a:xfrm flipH="1">
            <a:off x="3546000" y="2350800"/>
            <a:ext cx="680400" cy="383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4089240" y="30542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6" idx="4"/>
            <a:endCxn id="422" idx="0"/>
          </p:cNvCxnSpPr>
          <p:nvPr/>
        </p:nvCxnSpPr>
        <p:spPr>
          <a:xfrm flipH="1">
            <a:off x="4149360" y="2417760"/>
            <a:ext cx="144720" cy="629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3409200" y="22305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4,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49360" y="1851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09080" y="15908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7,1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42640" y="22114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9,1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20520" y="201780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2,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60400" y="24620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1080" y="26622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8,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01680" y="4314960"/>
            <a:ext cx="7688160" cy="459720"/>
            <a:chOff x="1201680" y="4314960"/>
            <a:chExt cx="7688160" cy="459720"/>
          </a:xfrm>
        </p:grpSpPr>
        <p:sp>
          <p:nvSpPr>
            <p:cNvPr id="432" name=""/>
            <p:cNvSpPr/>
            <p:nvPr/>
          </p:nvSpPr>
          <p:spPr>
            <a:xfrm>
              <a:off x="1201680" y="431496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hey think that we were there and t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2040" y="440388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204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603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4464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286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129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724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8120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6552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4948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380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1776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208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604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0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5432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25840" y="440532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9108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7504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2748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1180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576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8008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404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48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23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1664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006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849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6924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532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1680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0076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8508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6904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53360" y="440856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37680" y="441000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251960" y="32385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8,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44600" y="30956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4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26800" y="24130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82480" y="28353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97080" y="315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80320" y="36752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5,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52680" y="3606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80960" y="28144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26960" y="250200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7720" y="42847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A67C-2C07-4535-8CDE-F27AA37A4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ord Matching with 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ing of a compact trie for a given tex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you do that? Describe the compact trie insertion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ity of word matching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f the text is in external memo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worst-case we d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/O operations just to access single characters in the text – not effici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5B87-8C63-466A-B078-BA5AECEF5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37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Patricia tr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act trie where each edge’s labe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s replaced b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– from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>
            <a:off x="1125360" y="5694480"/>
            <a:ext cx="75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91040" y="307332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8" idx="1"/>
            <a:endCxn id="486" idx="5"/>
          </p:cNvCxnSpPr>
          <p:nvPr/>
        </p:nvCxnSpPr>
        <p:spPr>
          <a:xfrm flipH="1" flipV="1">
            <a:off x="4191840" y="3180960"/>
            <a:ext cx="816840" cy="378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976480" y="38606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29200" y="3844800"/>
            <a:ext cx="11880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6" idx="3"/>
            <a:endCxn id="489" idx="7"/>
          </p:cNvCxnSpPr>
          <p:nvPr/>
        </p:nvCxnSpPr>
        <p:spPr>
          <a:xfrm flipH="1">
            <a:off x="3077640" y="3181320"/>
            <a:ext cx="1031040" cy="689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5122800" y="506268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86" idx="4"/>
            <a:endCxn id="490" idx="0"/>
          </p:cNvCxnSpPr>
          <p:nvPr/>
        </p:nvCxnSpPr>
        <p:spPr>
          <a:xfrm>
            <a:off x="4151160" y="3198960"/>
            <a:ext cx="38880" cy="638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0" idx="5"/>
            <a:endCxn id="495" idx="0"/>
          </p:cNvCxnSpPr>
          <p:nvPr/>
        </p:nvCxnSpPr>
        <p:spPr>
          <a:xfrm>
            <a:off x="4230360" y="3952440"/>
            <a:ext cx="454680" cy="529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4624560" y="448956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27560" y="514188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5" idx="4"/>
            <a:endCxn id="496" idx="0"/>
          </p:cNvCxnSpPr>
          <p:nvPr/>
        </p:nvCxnSpPr>
        <p:spPr>
          <a:xfrm flipH="1">
            <a:off x="4386960" y="4614840"/>
            <a:ext cx="297720" cy="519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4991040" y="3549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88" idx="5"/>
            <a:endCxn id="499" idx="1"/>
          </p:cNvCxnSpPr>
          <p:nvPr/>
        </p:nvCxnSpPr>
        <p:spPr>
          <a:xfrm>
            <a:off x="5092560" y="3657240"/>
            <a:ext cx="718560" cy="3085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86360" y="42768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92760" y="395604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5" idx="5"/>
            <a:endCxn id="492" idx="1"/>
          </p:cNvCxnSpPr>
          <p:nvPr/>
        </p:nvCxnSpPr>
        <p:spPr>
          <a:xfrm>
            <a:off x="4725720" y="4597560"/>
            <a:ext cx="415080" cy="475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88" idx="4"/>
            <a:endCxn id="500" idx="0"/>
          </p:cNvCxnSpPr>
          <p:nvPr/>
        </p:nvCxnSpPr>
        <p:spPr>
          <a:xfrm flipH="1">
            <a:off x="5046120" y="3674880"/>
            <a:ext cx="5400" cy="594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089520" y="3279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40080" y="42768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490" idx="2"/>
            <a:endCxn id="504" idx="7"/>
          </p:cNvCxnSpPr>
          <p:nvPr/>
        </p:nvCxnSpPr>
        <p:spPr>
          <a:xfrm flipH="1">
            <a:off x="3441240" y="3903840"/>
            <a:ext cx="680400" cy="383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6" name=""/>
          <p:cNvSpPr/>
          <p:nvPr/>
        </p:nvSpPr>
        <p:spPr>
          <a:xfrm>
            <a:off x="3984480" y="46069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490" idx="4"/>
            <a:endCxn id="506" idx="0"/>
          </p:cNvCxnSpPr>
          <p:nvPr/>
        </p:nvCxnSpPr>
        <p:spPr>
          <a:xfrm flipH="1">
            <a:off x="4044600" y="3970440"/>
            <a:ext cx="144720" cy="629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402360" y="384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91520" y="34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1360" y="3143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9840" y="3724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_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01360" y="35701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68960" y="4038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28160" y="42148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i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96920" y="5867280"/>
            <a:ext cx="7688160" cy="459720"/>
            <a:chOff x="1096920" y="5867280"/>
            <a:chExt cx="7688160" cy="459720"/>
          </a:xfrm>
        </p:grpSpPr>
        <p:sp>
          <p:nvSpPr>
            <p:cNvPr id="516" name=""/>
            <p:cNvSpPr/>
            <p:nvPr/>
          </p:nvSpPr>
          <p:spPr>
            <a:xfrm>
              <a:off x="1096920" y="586728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hey think that we were there and t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87280" y="595620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728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555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3988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238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081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9248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7644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6076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472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904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1300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732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8128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65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956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21080" y="595764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632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7028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272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704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9100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7532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5928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43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275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1188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958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801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6448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484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1204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9600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032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6428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48600" y="5960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32920" y="5962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67800" y="479124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41280" y="46483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y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22040" y="396540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77360" y="43876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92320" y="471168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75560" y="52275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5,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47920" y="51595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200" y="43671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22200" y="405432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2960" y="5837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6D39-E686-4111-B424-1F884044C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Querying 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ord pre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query: find all words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start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0.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>
            <a:off x="689040" y="2560680"/>
            <a:ext cx="830880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tricia-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, k)     //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s P int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   j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index in the t.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[j..j+m-1] = P[0..m-1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list    // exact mat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here is a child-edge (P[k],s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 s &lt; 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tricia-Searc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, k+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 to any descendent leaf of t and d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eck of line 03, if it is true,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s of all descendent leafs of t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therwi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hing is fou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5DE8-E155-4F19-AB93-B57D8B6C19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alysis of the 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dea of patricia trie – postpone the actual comparison with the text to the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text is in external memory only O(1) I/O are performed (if the trie fits in main-mem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a Patricia Trie for word match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binary patricia tries are us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binary encoding of text (and que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node in the tree has two children (left for 0, right for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ges are labeled just with skip values (in b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>
            <a:off x="1125360" y="3505320"/>
            <a:ext cx="75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096920" y="3678120"/>
            <a:ext cx="7688160" cy="459720"/>
            <a:chOff x="1096920" y="3678120"/>
            <a:chExt cx="7688160" cy="459720"/>
          </a:xfrm>
        </p:grpSpPr>
        <p:sp>
          <p:nvSpPr>
            <p:cNvPr id="572" name=""/>
            <p:cNvSpPr/>
            <p:nvPr/>
          </p:nvSpPr>
          <p:spPr>
            <a:xfrm>
              <a:off x="1096920" y="367812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Courier New"/>
                </a:rPr>
                <a:t>føtex har haft en fødselsd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376704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728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71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555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3988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238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081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9248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7644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6076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4472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2904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1300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9732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8128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65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4956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21080" y="376848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8632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7028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2272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704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100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7532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5928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43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275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1188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958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801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448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484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9600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8032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6428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8600" y="377172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2920" y="37731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32960" y="3648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ACE7-36A0-453E-96A3-55DEA0068A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ext-Search Problem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r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occurrenc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ormulate the 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Find all suffixes of T that has P as a prefix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ready saw how to do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ord prefi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"/>
          <p:cNvSpPr/>
          <p:nvPr/>
        </p:nvSpPr>
        <p:spPr>
          <a:xfrm>
            <a:off x="6433920" y="1981080"/>
            <a:ext cx="12477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BC08-D815-4447-9689-7DFC36F6D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uffix Tre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Suffix tre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 compact trie (or similar structure) of all suffixes of the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icia trie of suffixes is sometime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 tre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3581640" y="5580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rara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72000" y="5668920"/>
            <a:ext cx="145728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72000" y="566892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5960" y="567072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40280" y="5670720"/>
            <a:ext cx="18396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24240" y="566892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08560" y="5670720"/>
            <a:ext cx="18396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92520" y="567072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76840" y="566892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7760" y="53784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19280" y="340056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7" idx="3"/>
            <a:endCxn id="629" idx="7"/>
          </p:cNvCxnSpPr>
          <p:nvPr/>
        </p:nvCxnSpPr>
        <p:spPr>
          <a:xfrm flipH="1">
            <a:off x="2082240" y="3507840"/>
            <a:ext cx="454680" cy="235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1981080" y="3733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37320" y="33526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32" idx="1"/>
            <a:endCxn id="627" idx="5"/>
          </p:cNvCxnSpPr>
          <p:nvPr/>
        </p:nvCxnSpPr>
        <p:spPr>
          <a:xfrm flipH="1" flipV="1">
            <a:off x="2620080" y="3507480"/>
            <a:ext cx="597960" cy="235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808360" y="3348000"/>
            <a:ext cx="2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41227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66840" y="4324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27" idx="4"/>
            <a:endCxn id="634" idx="0"/>
          </p:cNvCxnSpPr>
          <p:nvPr/>
        </p:nvCxnSpPr>
        <p:spPr>
          <a:xfrm flipH="1">
            <a:off x="2574360" y="3525840"/>
            <a:ext cx="5400" cy="5896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1752480" y="4648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"/>
          <p:cNvCxnSpPr>
            <a:stCxn id="629" idx="4"/>
            <a:endCxn id="635" idx="0"/>
          </p:cNvCxnSpPr>
          <p:nvPr/>
        </p:nvCxnSpPr>
        <p:spPr>
          <a:xfrm>
            <a:off x="2041560" y="3859200"/>
            <a:ext cx="18648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29" idx="3"/>
            <a:endCxn id="640" idx="0"/>
          </p:cNvCxnSpPr>
          <p:nvPr/>
        </p:nvCxnSpPr>
        <p:spPr>
          <a:xfrm flipH="1">
            <a:off x="1583640" y="3841920"/>
            <a:ext cx="415080" cy="342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0" name=""/>
          <p:cNvSpPr/>
          <p:nvPr/>
        </p:nvSpPr>
        <p:spPr>
          <a:xfrm>
            <a:off x="1523880" y="4191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72428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40" idx="3"/>
            <a:endCxn id="641" idx="0"/>
          </p:cNvCxnSpPr>
          <p:nvPr/>
        </p:nvCxnSpPr>
        <p:spPr>
          <a:xfrm flipH="1">
            <a:off x="1355400" y="4298760"/>
            <a:ext cx="186480" cy="417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3200400" y="3733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"/>
          <p:cNvCxnSpPr>
            <a:stCxn id="632" idx="5"/>
            <a:endCxn id="644" idx="1"/>
          </p:cNvCxnSpPr>
          <p:nvPr/>
        </p:nvCxnSpPr>
        <p:spPr>
          <a:xfrm>
            <a:off x="3301560" y="3841560"/>
            <a:ext cx="437400" cy="441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3030480" y="43578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20960" y="42735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>
            <a:stCxn id="640" idx="5"/>
            <a:endCxn id="637" idx="1"/>
          </p:cNvCxnSpPr>
          <p:nvPr/>
        </p:nvCxnSpPr>
        <p:spPr>
          <a:xfrm>
            <a:off x="1625400" y="4299120"/>
            <a:ext cx="14472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2" idx="4"/>
            <a:endCxn id="645" idx="0"/>
          </p:cNvCxnSpPr>
          <p:nvPr/>
        </p:nvCxnSpPr>
        <p:spPr>
          <a:xfrm flipH="1">
            <a:off x="3090600" y="3858840"/>
            <a:ext cx="170640" cy="491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1603440" y="3778200"/>
            <a:ext cx="2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7720" y="397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02840" y="367812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57520" y="4267080"/>
            <a:ext cx="6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7000" y="423540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91280" y="3821040"/>
            <a:ext cx="6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04280" y="39686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73400" y="47577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7720" y="476712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"/>
          <p:cNvCxnSpPr>
            <a:stCxn id="645" idx="3"/>
            <a:endCxn id="656" idx="0"/>
          </p:cNvCxnSpPr>
          <p:nvPr/>
        </p:nvCxnSpPr>
        <p:spPr>
          <a:xfrm flipH="1">
            <a:off x="2877840" y="4465440"/>
            <a:ext cx="170640" cy="294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58" name=""/>
          <p:cNvCxnSpPr>
            <a:stCxn id="645" idx="5"/>
            <a:endCxn id="655" idx="1"/>
          </p:cNvCxnSpPr>
          <p:nvPr/>
        </p:nvCxnSpPr>
        <p:spPr>
          <a:xfrm>
            <a:off x="3132000" y="4465440"/>
            <a:ext cx="59760" cy="302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59" name=""/>
          <p:cNvSpPr/>
          <p:nvPr/>
        </p:nvSpPr>
        <p:spPr>
          <a:xfrm>
            <a:off x="2749680" y="436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14000" y="440856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04560" y="48229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69680" y="47433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85840" y="44226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431800" y="42386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28440" y="48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87360" y="486108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47880" y="43783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316560" y="340524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8" idx="3"/>
            <a:endCxn id="670" idx="7"/>
          </p:cNvCxnSpPr>
          <p:nvPr/>
        </p:nvCxnSpPr>
        <p:spPr>
          <a:xfrm flipH="1">
            <a:off x="5879520" y="3513240"/>
            <a:ext cx="454680" cy="2354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778360" y="3738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40560" y="3352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73" idx="1"/>
            <a:endCxn id="668" idx="5"/>
          </p:cNvCxnSpPr>
          <p:nvPr/>
        </p:nvCxnSpPr>
        <p:spPr>
          <a:xfrm flipH="1" flipV="1">
            <a:off x="6418080" y="3512880"/>
            <a:ext cx="597600" cy="2354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6607800" y="33526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311880" y="41274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64120" y="43290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"/>
          <p:cNvCxnSpPr>
            <a:stCxn id="668" idx="4"/>
            <a:endCxn id="675" idx="0"/>
          </p:cNvCxnSpPr>
          <p:nvPr/>
        </p:nvCxnSpPr>
        <p:spPr>
          <a:xfrm flipH="1">
            <a:off x="6371640" y="3530520"/>
            <a:ext cx="5400" cy="5896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8" name=""/>
          <p:cNvSpPr/>
          <p:nvPr/>
        </p:nvSpPr>
        <p:spPr>
          <a:xfrm>
            <a:off x="5549760" y="46530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"/>
          <p:cNvCxnSpPr>
            <a:stCxn id="670" idx="4"/>
            <a:endCxn id="676" idx="0"/>
          </p:cNvCxnSpPr>
          <p:nvPr/>
        </p:nvCxnSpPr>
        <p:spPr>
          <a:xfrm>
            <a:off x="5838840" y="3863880"/>
            <a:ext cx="18648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70" idx="3"/>
            <a:endCxn id="681" idx="0"/>
          </p:cNvCxnSpPr>
          <p:nvPr/>
        </p:nvCxnSpPr>
        <p:spPr>
          <a:xfrm flipH="1">
            <a:off x="5380920" y="3846600"/>
            <a:ext cx="415080" cy="342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5321160" y="41958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092560" y="4729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81" idx="3"/>
            <a:endCxn id="682" idx="0"/>
          </p:cNvCxnSpPr>
          <p:nvPr/>
        </p:nvCxnSpPr>
        <p:spPr>
          <a:xfrm flipH="1">
            <a:off x="5152680" y="4303800"/>
            <a:ext cx="186480" cy="418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6997680" y="3738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4" name=""/>
          <p:cNvCxnSpPr>
            <a:stCxn id="673" idx="5"/>
            <a:endCxn id="685" idx="1"/>
          </p:cNvCxnSpPr>
          <p:nvPr/>
        </p:nvCxnSpPr>
        <p:spPr>
          <a:xfrm>
            <a:off x="7098840" y="3846600"/>
            <a:ext cx="437400" cy="442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6827760" y="436248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18240" y="42782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stCxn id="681" idx="5"/>
            <a:endCxn id="678" idx="1"/>
          </p:cNvCxnSpPr>
          <p:nvPr/>
        </p:nvCxnSpPr>
        <p:spPr>
          <a:xfrm>
            <a:off x="5422680" y="4303800"/>
            <a:ext cx="14472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3" idx="4"/>
            <a:endCxn id="686" idx="0"/>
          </p:cNvCxnSpPr>
          <p:nvPr/>
        </p:nvCxnSpPr>
        <p:spPr>
          <a:xfrm flipH="1">
            <a:off x="6887880" y="3863520"/>
            <a:ext cx="170640" cy="491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5237640" y="37576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660640" y="3992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$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57160" y="36939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,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54960" y="42973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75520" y="427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115040" y="47275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615000" y="47721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"/>
          <p:cNvCxnSpPr>
            <a:stCxn id="686" idx="3"/>
            <a:endCxn id="695" idx="0"/>
          </p:cNvCxnSpPr>
          <p:nvPr/>
        </p:nvCxnSpPr>
        <p:spPr>
          <a:xfrm flipH="1">
            <a:off x="6675120" y="4470480"/>
            <a:ext cx="170640" cy="294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86" idx="5"/>
            <a:endCxn id="694" idx="1"/>
          </p:cNvCxnSpPr>
          <p:nvPr/>
        </p:nvCxnSpPr>
        <p:spPr>
          <a:xfrm>
            <a:off x="6928920" y="4470120"/>
            <a:ext cx="204120" cy="267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5001840" y="48276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466960" y="4748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83120" y="44276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229080" y="42433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526080" y="48798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26120" y="48164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445160" y="4383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214040" y="38527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08960" y="3959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03000" y="43657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73160" y="44895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$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874C-9D97-42CC-ADB5-4E72180B0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Pat Trees: Analysi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 search for P is then a prefix que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+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number of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I/Os if the text is in external-memory (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ze of the Pat tree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tage of compression: the size of the simple trie of suffixes would be in the worst-c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1)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) + … 1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79A7-B60A-4A1C-A7E6-E598850800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ext-Search Data Structur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s of the lecture: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ictionary AD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for strings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the principles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rie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compact tries, Patricia 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xt-searching data structu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and be able to analyze text searching algorithm using 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uffix tre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and Pat tr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ull-text indices in external memo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the main principles of String B-tre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A57D-3300-444D-93F7-F7DF54CB9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nstructing Suffix Tre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ïve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 all suffixes one after another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ver algorithms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cCreight, Ukkon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n the text from left to right, use additional suffix links in the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ow does the the Pat tree looks like after inserting the first five prefixes using the naïve algorith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5529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nolulu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491160" y="5618160"/>
            <a:ext cx="16621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91160" y="561816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75480" y="561960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944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43760" y="561816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22772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1204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96360" y="561816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07280" y="5327640"/>
            <a:ext cx="182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777080" y="562140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886D-71AF-4FCA-9393-E044D66D42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Full-Text Indic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f the Pat tree does not fit in main memo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external-memory data structures were propo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t 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 B-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 B-tre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-tree for strings, i.e., supports dictionary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for text-searching if all suffixes are stored i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35CB-32F1-4CCA-B09F-A393242BA3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ring B-tre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37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gh ide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is external to the tree, strings are represented in the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tree by the indices of where they begin in th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mean do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) I/Os when visiting each node – too much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 – organize all keys in each node into a Patricia trie. When searching this trie (without any I/O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reach a leaf. What th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top in the middle. What then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running time of text sear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2DD8-3445-47A9-B967-1E4A3CF57F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ictionary ADT for String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Dictiona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DT for strings – stores a set of text string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– checks if str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n th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 – inserts a new str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o th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e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ing equal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et of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s, no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s, </a:t>
            </a: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s in to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lengt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ze of the alphabet </a:t>
            </a: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5A1B-03E4-4814-B994-8792777C2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ST of String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, of course, use binary search trees. Some iss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s are of varying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t of strings share similar prefixes (beginnings) – potential for saving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count comparisons of charact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worst-case running time of searching for a string of leng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1204-DBF5-4272-BC65-DB6D7FA5D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 data structure for storing a set of strings (name from the word “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”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assume, all strings end with “$” (not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93920" y="3014640"/>
            <a:ext cx="4030560" cy="2319480"/>
            <a:chOff x="2293920" y="3014640"/>
            <a:chExt cx="4030560" cy="2319480"/>
          </a:xfrm>
        </p:grpSpPr>
        <p:sp>
          <p:nvSpPr>
            <p:cNvPr id="219" name=""/>
            <p:cNvSpPr/>
            <p:nvPr/>
          </p:nvSpPr>
          <p:spPr>
            <a:xfrm>
              <a:off x="3822840" y="308916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9" idx="3"/>
              <a:endCxn id="221" idx="7"/>
            </p:cNvCxnSpPr>
            <p:nvPr/>
          </p:nvCxnSpPr>
          <p:spPr>
            <a:xfrm flipH="1">
              <a:off x="3631680" y="3196800"/>
              <a:ext cx="208800" cy="188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1" name=""/>
            <p:cNvSpPr/>
            <p:nvPr/>
          </p:nvSpPr>
          <p:spPr>
            <a:xfrm>
              <a:off x="3530520" y="3375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05160" y="33768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7200" y="30416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22" idx="1"/>
              <a:endCxn id="219" idx="5"/>
            </p:cNvCxnSpPr>
            <p:nvPr/>
          </p:nvCxnSpPr>
          <p:spPr>
            <a:xfrm flipH="1" flipV="1">
              <a:off x="3923640" y="3196440"/>
              <a:ext cx="299160" cy="189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3992400" y="301464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30640" y="36831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3"/>
              <a:endCxn id="228" idx="7"/>
            </p:cNvCxnSpPr>
            <p:nvPr/>
          </p:nvCxnSpPr>
          <p:spPr>
            <a:xfrm flipH="1">
              <a:off x="3039480" y="3791160"/>
              <a:ext cx="20844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8" name=""/>
            <p:cNvSpPr/>
            <p:nvPr/>
          </p:nvSpPr>
          <p:spPr>
            <a:xfrm>
              <a:off x="2938320" y="396864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6320" y="37911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"/>
            <p:cNvCxnSpPr>
              <a:stCxn id="221" idx="3"/>
              <a:endCxn id="226" idx="7"/>
            </p:cNvCxnSpPr>
            <p:nvPr/>
          </p:nvCxnSpPr>
          <p:spPr>
            <a:xfrm flipH="1">
              <a:off x="3331800" y="3483000"/>
              <a:ext cx="216720" cy="210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31" name=""/>
            <p:cNvSpPr/>
            <p:nvPr/>
          </p:nvSpPr>
          <p:spPr>
            <a:xfrm>
              <a:off x="4394160" y="450360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9080" y="425916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36760" y="4545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8" idx="3"/>
              <a:endCxn id="232" idx="7"/>
            </p:cNvCxnSpPr>
            <p:nvPr/>
          </p:nvCxnSpPr>
          <p:spPr>
            <a:xfrm flipH="1">
              <a:off x="2730240" y="4076640"/>
              <a:ext cx="226080" cy="192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2" idx="3"/>
              <a:endCxn id="233" idx="7"/>
            </p:cNvCxnSpPr>
            <p:nvPr/>
          </p:nvCxnSpPr>
          <p:spPr>
            <a:xfrm flipH="1">
              <a:off x="2437920" y="4366800"/>
              <a:ext cx="208800" cy="188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1" idx="4"/>
              <a:endCxn id="229" idx="0"/>
            </p:cNvCxnSpPr>
            <p:nvPr/>
          </p:nvCxnSpPr>
          <p:spPr>
            <a:xfrm>
              <a:off x="3591000" y="3500640"/>
              <a:ext cx="56160" cy="282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37" name=""/>
            <p:cNvSpPr/>
            <p:nvPr/>
          </p:nvSpPr>
          <p:spPr>
            <a:xfrm>
              <a:off x="3500280" y="420840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0400" y="45799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"/>
            <p:cNvCxnSpPr>
              <a:stCxn id="229" idx="4"/>
              <a:endCxn id="237" idx="0"/>
            </p:cNvCxnSpPr>
            <p:nvPr/>
          </p:nvCxnSpPr>
          <p:spPr>
            <a:xfrm flipH="1">
              <a:off x="3560400" y="3916080"/>
              <a:ext cx="86400" cy="284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0" name=""/>
            <p:cNvCxnSpPr>
              <a:stCxn id="237" idx="4"/>
              <a:endCxn id="238" idx="0"/>
            </p:cNvCxnSpPr>
            <p:nvPr/>
          </p:nvCxnSpPr>
          <p:spPr>
            <a:xfrm flipH="1">
              <a:off x="3530520" y="4333680"/>
              <a:ext cx="30600" cy="238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3976560" y="37911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21" idx="5"/>
              <a:endCxn id="241" idx="0"/>
            </p:cNvCxnSpPr>
            <p:nvPr/>
          </p:nvCxnSpPr>
          <p:spPr>
            <a:xfrm>
              <a:off x="3631680" y="3482640"/>
              <a:ext cx="405720" cy="300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02120" y="421632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2360" y="461484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1" idx="4"/>
              <a:endCxn id="243" idx="0"/>
            </p:cNvCxnSpPr>
            <p:nvPr/>
          </p:nvCxnSpPr>
          <p:spPr>
            <a:xfrm>
              <a:off x="4037040" y="3916080"/>
              <a:ext cx="25920" cy="292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3" idx="4"/>
              <a:endCxn id="244" idx="0"/>
            </p:cNvCxnSpPr>
            <p:nvPr/>
          </p:nvCxnSpPr>
          <p:spPr>
            <a:xfrm>
              <a:off x="4062240" y="4341960"/>
              <a:ext cx="30600" cy="26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7" name=""/>
            <p:cNvSpPr/>
            <p:nvPr/>
          </p:nvSpPr>
          <p:spPr>
            <a:xfrm>
              <a:off x="4065480" y="5004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4" idx="4"/>
              <a:endCxn id="247" idx="0"/>
            </p:cNvCxnSpPr>
            <p:nvPr/>
          </p:nvCxnSpPr>
          <p:spPr>
            <a:xfrm>
              <a:off x="4092120" y="4740480"/>
              <a:ext cx="34200" cy="255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4600440" y="367344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>
              <a:stCxn id="249" idx="5"/>
              <a:endCxn id="251" idx="1"/>
            </p:cNvCxnSpPr>
            <p:nvPr/>
          </p:nvCxnSpPr>
          <p:spPr>
            <a:xfrm>
              <a:off x="4702320" y="3781080"/>
              <a:ext cx="26712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4951440" y="397044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22" idx="5"/>
              <a:endCxn id="249" idx="1"/>
            </p:cNvCxnSpPr>
            <p:nvPr/>
          </p:nvCxnSpPr>
          <p:spPr>
            <a:xfrm>
              <a:off x="4307040" y="3484440"/>
              <a:ext cx="311760" cy="1994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5262480" y="429408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21320" y="488484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1" idx="5"/>
              <a:endCxn id="253" idx="1"/>
            </p:cNvCxnSpPr>
            <p:nvPr/>
          </p:nvCxnSpPr>
          <p:spPr>
            <a:xfrm>
              <a:off x="5052600" y="4078440"/>
              <a:ext cx="227880" cy="226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4807080" y="443700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49760" y="459576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7" idx="5"/>
              <a:endCxn id="259" idx="1"/>
            </p:cNvCxnSpPr>
            <p:nvPr/>
          </p:nvCxnSpPr>
          <p:spPr>
            <a:xfrm>
              <a:off x="5651640" y="4703400"/>
              <a:ext cx="24192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5875200" y="48927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>
              <a:stCxn id="253" idx="5"/>
              <a:endCxn id="257" idx="1"/>
            </p:cNvCxnSpPr>
            <p:nvPr/>
          </p:nvCxnSpPr>
          <p:spPr>
            <a:xfrm>
              <a:off x="5363640" y="4401720"/>
              <a:ext cx="204120" cy="204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61" name=""/>
            <p:cNvSpPr/>
            <p:nvPr/>
          </p:nvSpPr>
          <p:spPr>
            <a:xfrm>
              <a:off x="6186600" y="521640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"/>
            <p:cNvCxnSpPr>
              <a:stCxn id="259" idx="5"/>
              <a:endCxn id="261" idx="1"/>
            </p:cNvCxnSpPr>
            <p:nvPr/>
          </p:nvCxnSpPr>
          <p:spPr>
            <a:xfrm>
              <a:off x="5977080" y="5000760"/>
              <a:ext cx="227520" cy="226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43" idx="5"/>
              <a:endCxn id="231" idx="1"/>
            </p:cNvCxnSpPr>
            <p:nvPr/>
          </p:nvCxnSpPr>
          <p:spPr>
            <a:xfrm>
              <a:off x="4103640" y="4323960"/>
              <a:ext cx="308880" cy="189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31" idx="5"/>
              <a:endCxn id="254" idx="0"/>
            </p:cNvCxnSpPr>
            <p:nvPr/>
          </p:nvCxnSpPr>
          <p:spPr>
            <a:xfrm>
              <a:off x="4495680" y="4611240"/>
              <a:ext cx="186480" cy="2660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51" idx="3"/>
              <a:endCxn id="256" idx="0"/>
            </p:cNvCxnSpPr>
            <p:nvPr/>
          </p:nvCxnSpPr>
          <p:spPr>
            <a:xfrm flipH="1">
              <a:off x="4866840" y="4078440"/>
              <a:ext cx="102240" cy="351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66" name=""/>
            <p:cNvSpPr/>
            <p:nvPr/>
          </p:nvSpPr>
          <p:spPr>
            <a:xfrm>
              <a:off x="3205080" y="3325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00880" y="3622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70120" y="389088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93920" y="4164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0000" y="351000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49080" y="38610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84640" y="4272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1040" y="33577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78640" y="38908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2960" y="43164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86200" y="4697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621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720" y="416412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5040" y="33256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6280" y="3630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8040" y="3935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5480" y="424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7160" y="454500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56240" y="4043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27840" y="4849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800" y="5419800"/>
            <a:ext cx="8337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of strings: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r, bid, bulk, bull, sun, sun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19E5-600A-41F3-B42D-1E06FDCCD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ies of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ulti-way tr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from 1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tree is labeled with a charac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de corresponds to the stored string, which is a concatenation of characters on a path from the root to this node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9274-6B14-44D1-8EF7-7E72EDB909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earch and Insertion in Tri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833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arch algorithm just follows the path down the tree (starting with Trie-Search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0.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708120" y="1528920"/>
            <a:ext cx="81309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[k..m])  //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erts string P int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Searc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[k+1..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867280"/>
            <a:ext cx="833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the delet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967200"/>
            <a:ext cx="81313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Inse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[k..m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not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therwise P is already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 a new child of 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 “branch” starting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th that chlid and stor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[k..m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Inse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[k+1..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429C-93EA-413A-B7CF-5630AF996C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 Node Structur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 detai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node structure? = What is the complexity of the t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) operation?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r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 of siz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waist of space, bu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h 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less waist of spac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expect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compact, bu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n the worst-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inary search tr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compact a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n the worst-c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2D91-9E36-4BED-AC6E-1EDECBD41B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alysis of the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z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n the worst-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, insertion, and deletion (string of leng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ing on the node structure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with the string B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ing chains of one-child nodes is wasteful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9F21-36F7-4E70-BEC9-D02CD55BF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20:03:01Z</dcterms:created>
  <dc:creator>Simonas Saltenis</dc:creator>
  <dc:description/>
  <dc:language>en-US</dc:language>
  <cp:lastModifiedBy>Simonas Saltenis</cp:lastModifiedBy>
  <dcterms:modified xsi:type="dcterms:W3CDTF">2004-09-28T06:23:00Z</dcterms:modified>
  <cp:revision>46</cp:revision>
  <dc:subject/>
  <dc:title>Advanced Algorithm  Design and Analysis (Lecture 1)</dc:title>
</cp:coreProperties>
</file>